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3C88-8978-45B9-A695-EDC88732B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ED3A-7E48-4714-91BC-0201CAF6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D487-B6E6-4E4D-8D00-3CCA959B5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2FF7-EC7B-48DD-A7A5-CFC64C762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2F83-1DD0-4842-8E17-FE4D4950C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B010-8FED-42FC-9A95-297DDA1C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1C10-3A4F-48E7-9045-12163152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A7A9-8EFE-43C2-BB7B-A8188392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93A7-8408-4F18-BE71-E254CAF5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137C-238A-48E3-BCEB-9200B36D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1232-CED8-4315-B3FE-D8B94208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4885-03E9-41A0-AB9C-B5D44EC5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AA95-EA04-4639-B85C-86031197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60E7-5E06-4261-A727-37C46075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88C9-6B9C-4EED-A50C-687377B0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1A74-878B-4A8F-8267-762ACB9DD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F3C9-8AEA-4105-9931-8E2DFAE1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DEB5-2E3F-4697-A1C8-9A2738E5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44D7-E598-46DD-9BCC-4EA8F34B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9687-C2CE-4F68-B4C9-113B75D1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9B90-A105-42F8-8AE7-5F95A850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A5C4-085A-404D-9C00-B52643DC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523B-6EA5-4B75-B330-4B834EBC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6CBD-A0FD-4736-99B7-91C94007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6B81-4C08-495B-8C18-E2AD43A9087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9972-6004-4153-ADCA-FCCD05B77A6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1E55-509D-4054-9ED2-02EEA34D81D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24CE-35BB-466B-BDDE-5FF9769D34D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1676520" y="762120"/>
            <a:ext cx="63244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У Г Л Е В О Д Ы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7" name="Picture 6" descr="C:\Documents and Settings\Администратор\Application Data\Microsoft\Media Catalog\s.gif"/>
          <p:cNvPicPr/>
          <p:nvPr/>
        </p:nvPicPr>
        <p:blipFill>
          <a:blip r:embed="rId1"/>
          <a:stretch/>
        </p:blipFill>
        <p:spPr>
          <a:xfrm>
            <a:off x="6705720" y="4114800"/>
            <a:ext cx="2211120" cy="274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C69D-06D9-4BA6-BC35-51D9516F9BB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http://www.college.ru/biology/course/content/javagifs/08010203.gif"/>
          <p:cNvPicPr/>
          <p:nvPr/>
        </p:nvPicPr>
        <p:blipFill>
          <a:blip r:embed="rId1"/>
          <a:stretch/>
        </p:blipFill>
        <p:spPr>
          <a:xfrm>
            <a:off x="304920" y="304920"/>
            <a:ext cx="4343400" cy="28954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6"/>
          <p:cNvSpPr/>
          <p:nvPr/>
        </p:nvSpPr>
        <p:spPr>
          <a:xfrm>
            <a:off x="914400" y="3352680"/>
            <a:ext cx="1752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льт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4648320" y="228600"/>
            <a:ext cx="4495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лодовый сахар - это промежуточный продукт при гидролизе крахмала. По другому его называют еще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мальт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т.к. солодовый сахар получается из крахмала при действии солода 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. солод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tum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0" y="411480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лодовый сахар широко распространен как в растительных, так и в животных организмах. Например, он образуется под влиянием ферментов пищеварительного канала, а также при многих технологических процессах бродильной промышленности: винокурения, пивоварении и т.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0CD4-C631-4A48-9F07-C4B8248ACA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1258920" y="1197000"/>
            <a:ext cx="7885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изические свой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сахариды - твердые, кристаллические, вещества, от слегка белого до коричневатого цвета, хорошо растворимые в воде и в 45 — 48°-ном спирте, плохо растворимы в 96°-ном спирте, имеют оптическую активность; сладки на вкус[1]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6FF8-B06E-447B-A694-0ADDA1B442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755640" y="765000"/>
            <a:ext cx="79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имические свой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гидролизе расщепляются на составляющие их моносахариды за счёт разрыва гликозидных связей между ними. Эта реакция является обратной процессу образования дисахаридов из моносахарид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конденсации дисахаридов образуются молекулы полисахарид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химическим свойствам дисахариды можно разделить на две групп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сстанавливающ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восстанавливающ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первой группе относятся: лактоза, мальтоза, целлобиоза. Ко второй: сахароза, трегалоза[2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BB04-22B7-4E45-9AEB-3655B23561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1079640" y="0"/>
            <a:ext cx="806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исахариды можно разделить на две группы: невосстанавливающие и восстанавливающие. Невосстанавливающие сахара не имеют ОН-группы ни при одном аномерном центре, восстанавливающие – имеют свободную ОН-группу при аномерном центр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F1AC-1504-4E30-9E0C-897BD734E2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1116000" y="243000"/>
            <a:ext cx="8028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сахариды вступают в большинство реакций, характерных для моносахаридов: образуют простые и сложные эфиры, гликозиды, производные по карбонильной группе. Восстанавливающие дисахариды окисляются до гликобионовых кислот. Гликозидная связь в дисахаридах расщепляется под действием водных растворов кислот и ферментов. В разбавленных растворах щелочей дисахариды устойчивы. Ферменты действуют селективно, расщепляя только a- или только b-гликозидную связ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1139-F9A8-4D72-9E5C-F0DFC35A83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1"/>
          <p:cNvSpPr/>
          <p:nvPr/>
        </p:nvSpPr>
        <p:spPr>
          <a:xfrm>
            <a:off x="1042920" y="0"/>
            <a:ext cx="7561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имические свойства дисахаридов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способность гидролизоваться: под действием кислоты или соответствующего фермента разрывается гликозидная связь и образуются два моносахарид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окисляются ионами меди, серебра, ртути, образуют озазоны и вступают во все реакции, характерные для соединений, содержащих свободные карбонильные группы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дисахариды могут быть окислены до диоксида углерода и воды. Под действием ферментов дрожжей сахароза и мальтоза дают этанол, а лактоза не изменяет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120C-0F2F-4B35-91DF-6A2BB45C55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Рисунок 1" descr=""/>
          <p:cNvPicPr/>
          <p:nvPr/>
        </p:nvPicPr>
        <p:blipFill>
          <a:blip r:embed="rId1"/>
          <a:stretch/>
        </p:blipFill>
        <p:spPr>
          <a:xfrm>
            <a:off x="971640" y="2781360"/>
            <a:ext cx="8172360" cy="407664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2"/>
          <p:cNvSpPr/>
          <p:nvPr/>
        </p:nvSpPr>
        <p:spPr>
          <a:xfrm>
            <a:off x="1187280" y="8366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ледовательность реакций – окисление, метилирование, гидролиз, позволяет установить строение дисахари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5E6B-46FC-4CE9-965B-F541FBA717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"/>
          <p:cNvSpPr/>
          <p:nvPr/>
        </p:nvSpPr>
        <p:spPr>
          <a:xfrm>
            <a:off x="1116000" y="0"/>
            <a:ext cx="8028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кисление дает возможность определить, остаток какого моносахарида находится на восстанавливающем конце. Метилирование и гидролиз дают информацию о положении гликозидной связи и размерах цикла моносахаридных звеньев. Конфигурация гликозидной связи ( a или b) может быть определена с помощью ферментативного гидролиз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BC04-AE4B-4620-BCE5-F59FAAE4EF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0" y="83664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осстанавливающие дисахариды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этих дисахаридах один из моносахаридных остатков участвует в образовании гликозидной связи за счет гидроксильной группы чаще всего при С-4 или С-6, реже при С-3. В дисахариде имеется свободная полуацетальная гидроксильная группа, вследствие чего сохраняется способность к раскрытию цикла. Возможностью осуществления цикло-оксо-таутометрии обусловлены восстановительные свойства таких дисахаридов и мутаротация их свежеприготовленных растворов[3]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Лактоз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Мальтоз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Целлобиоз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F619-1BD8-47B0-B959-2098A1CD88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1042920" y="96840"/>
            <a:ext cx="7489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восстанавливающие дисахари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восстанавливающие дисахариды не имеют ОН-группы ни при одном аномерном центре, в результате чего, они не вступают в реакции с фелинговой жидкостью и реактивом Толленс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ахар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регал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209E-6F78-4F47-8B6F-670C832FEC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218960" y="990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Углеводам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называют вещества с общей формулой C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H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)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где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и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натуральные числа. Название «углеводы» говорит о том, что в их молекулах водород и кислород находятся в том же отношении, что и в вод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219320" y="4191120"/>
            <a:ext cx="7619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В животных клетках содержится небольшое количество углеводов, а в растительных – почти 70 % от общего количества органических вещест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2DEE-78C1-47EB-A713-DA0530D619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1"/>
          <p:cNvSpPr/>
          <p:nvPr/>
        </p:nvSpPr>
        <p:spPr>
          <a:xfrm>
            <a:off x="1042920" y="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менение сахарозы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хароза в основном используется в качестве продукта питания и в кондитерской промышленности. Путем гидролиза из нее получают искусственный ме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Рисунок 2" descr=""/>
          <p:cNvPicPr/>
          <p:nvPr/>
        </p:nvPicPr>
        <p:blipFill>
          <a:blip r:embed="rId1"/>
          <a:stretch/>
        </p:blipFill>
        <p:spPr>
          <a:xfrm>
            <a:off x="1114560" y="3284640"/>
            <a:ext cx="7921440" cy="357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22DD-0FE3-4C1F-A324-8D90262A76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1"/>
          <p:cNvSpPr/>
          <p:nvPr/>
        </p:nvSpPr>
        <p:spPr>
          <a:xfrm>
            <a:off x="1085760" y="27000"/>
            <a:ext cx="80280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ахождение в природе и организме человека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ахароза входит в состав сока сахарной свеклы (16 — 20%) и сахарного тростника (14 — 26%). В небольших количествах она содержится вместе с глюкозой в плодах и листьях многих зеленых растений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24AF-D450-40F1-A756-A59A4167FD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915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КЛАССИФИКАЦИЯ</a:t>
            </a:r>
            <a:br>
              <a:rPr sz="4400"/>
            </a:b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УГЛЕВОДОВ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СТ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носахари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4038480" y="3809880"/>
            <a:ext cx="4800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ОЖ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 дисахариды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исахариды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7"/>
          <p:cNvSpPr/>
          <p:nvPr/>
        </p:nvSpPr>
        <p:spPr>
          <a:xfrm flipH="1">
            <a:off x="2057040" y="2362320"/>
            <a:ext cx="1066680" cy="99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5105520" y="2362320"/>
            <a:ext cx="1371600" cy="99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88D0-C938-451E-90F1-7EBF15A600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Д И С А Х А Р И Д Ы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6165360"/>
            <a:ext cx="80773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52280" y="1371600"/>
            <a:ext cx="86108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ахариды - это сложные сахара, каждая молекула которых при гидролизе распадается на 2 молекулы моносахарида.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огда они используются в качестве запасных питательных веществ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8B39-4958-441E-B919-70D3C3D1A2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1"/>
          <p:cNvSpPr/>
          <p:nvPr/>
        </p:nvSpPr>
        <p:spPr>
          <a:xfrm>
            <a:off x="1042920" y="-3240"/>
            <a:ext cx="741672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сахариды, или биозы, состоят из остатков двух моноз. Связывание двух моноз в биозу может происходить либо за счет гликозидных гидроксильных групп обоих моносахаридов, (невосстанавливающие дисахариды) либо с участием гликозидной гидроксильной группы одного и спиртовой гидроксильной группы другого моносахарида (восстанавливающие дисахариды). В последнем случае в отличие от первого дисахариды обладают восстанавливающими свойствами и обнаруживают явление мутаротации, поскольку в них вследствие кольчато-цепной таутомерии возможен взаимный переход открытой и циклической форм одного из моносахарид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5A48-DD3A-43A2-8FE0-C4FDF8FB0A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1403280" y="189000"/>
            <a:ext cx="69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сахариды имеют формулу С12Н22О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 дисахаридам относятс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1403280" y="2060640"/>
            <a:ext cx="4572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-сахароза (глюкоза + фруктоза) 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-лактоза (глюкоза + галактоза) 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-мальтоза (глюкоза + глюкоза), 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-целобиоза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4C17-7CA2-4928-9820-C0DC883E98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781320" y="228600"/>
            <a:ext cx="175284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льт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9" descr="http://www.college.ru/biology/course/content/javagifs/08010203.gif"/>
          <p:cNvPicPr/>
          <p:nvPr/>
        </p:nvPicPr>
        <p:blipFill>
          <a:blip r:embed="rId1"/>
          <a:stretch/>
        </p:blipFill>
        <p:spPr>
          <a:xfrm>
            <a:off x="228600" y="228600"/>
            <a:ext cx="4370400" cy="2654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http://www.college.ru/biology/course/content/javagifs/08010204.gif"/>
          <p:cNvPicPr/>
          <p:nvPr/>
        </p:nvPicPr>
        <p:blipFill>
          <a:blip r:embed="rId2"/>
          <a:stretch/>
        </p:blipFill>
        <p:spPr>
          <a:xfrm>
            <a:off x="4876920" y="1219320"/>
            <a:ext cx="4267080" cy="2590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4" name="Rectangle 12"/>
          <p:cNvSpPr/>
          <p:nvPr/>
        </p:nvSpPr>
        <p:spPr>
          <a:xfrm>
            <a:off x="1295280" y="312408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кт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13" descr="http://www.college.ru/biology/course/content/javagifs/08010205.gif"/>
          <p:cNvPicPr/>
          <p:nvPr/>
        </p:nvPicPr>
        <p:blipFill>
          <a:blip r:embed="rId3"/>
          <a:stretch/>
        </p:blipFill>
        <p:spPr>
          <a:xfrm>
            <a:off x="228600" y="3962520"/>
            <a:ext cx="4267080" cy="2400120"/>
          </a:xfrm>
          <a:prstGeom prst="rect">
            <a:avLst/>
          </a:prstGeom>
          <a:ln w="0">
            <a:noFill/>
          </a:ln>
        </p:spPr>
      </p:pic>
      <p:sp>
        <p:nvSpPr>
          <p:cNvPr id="166" name="Line 15"/>
          <p:cNvSpPr/>
          <p:nvPr/>
        </p:nvSpPr>
        <p:spPr>
          <a:xfrm flipH="1">
            <a:off x="4723920" y="380880"/>
            <a:ext cx="17528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16"/>
          <p:cNvSpPr/>
          <p:nvPr/>
        </p:nvSpPr>
        <p:spPr>
          <a:xfrm flipV="1">
            <a:off x="3352680" y="3200040"/>
            <a:ext cx="12956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17"/>
          <p:cNvSpPr/>
          <p:nvPr/>
        </p:nvSpPr>
        <p:spPr>
          <a:xfrm>
            <a:off x="6324480" y="457200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ахар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18"/>
          <p:cNvSpPr/>
          <p:nvPr/>
        </p:nvSpPr>
        <p:spPr>
          <a:xfrm flipH="1">
            <a:off x="4876920" y="4876920"/>
            <a:ext cx="1295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2E80-19D3-4B99-AB75-18A932EBF1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4419720" y="457200"/>
            <a:ext cx="4495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жнейший из дисахаридов - сахароза - очень распространен в природе. Это химическое название обычного сахара, называемого тростниковым или свекловичны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8" descr="http://www.college.ru/biology/course/content/chapter8/section1/paragraph2/images/08010202.jpg"/>
          <p:cNvPicPr/>
          <p:nvPr/>
        </p:nvPicPr>
        <p:blipFill>
          <a:blip r:embed="rId1"/>
          <a:stretch/>
        </p:blipFill>
        <p:spPr>
          <a:xfrm>
            <a:off x="304920" y="380880"/>
            <a:ext cx="3886200" cy="3657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http://www.college.ru/biology/course/content/javagifs/08010205.gif"/>
          <p:cNvPicPr/>
          <p:nvPr/>
        </p:nvPicPr>
        <p:blipFill>
          <a:blip r:embed="rId2"/>
          <a:stretch/>
        </p:blipFill>
        <p:spPr>
          <a:xfrm>
            <a:off x="228600" y="4114800"/>
            <a:ext cx="4267080" cy="24004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1"/>
          <p:cNvSpPr/>
          <p:nvPr/>
        </p:nvSpPr>
        <p:spPr>
          <a:xfrm>
            <a:off x="4572000" y="3886200"/>
            <a:ext cx="4343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кловичный сахар широко применяется в пищевой промышленности, кулинарии, приготовлении вин, пива и т.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DB22-1B00-4ACC-AC07-F5661DF17B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http://www.college.ru/biology/course/content/javagifs/08010204.gif"/>
          <p:cNvPicPr/>
          <p:nvPr/>
        </p:nvPicPr>
        <p:blipFill>
          <a:blip r:embed="rId1"/>
          <a:stretch/>
        </p:blipFill>
        <p:spPr>
          <a:xfrm>
            <a:off x="4648320" y="380880"/>
            <a:ext cx="4267080" cy="259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5" name="Rectangle 8"/>
          <p:cNvSpPr/>
          <p:nvPr/>
        </p:nvSpPr>
        <p:spPr>
          <a:xfrm>
            <a:off x="0" y="38088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молока получают молочный сахар -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лактозу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молоке лактоза содержится в довольно значительном количеств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0" y="312408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ктоза отличается от других сахаров отсутствием гидроскопичности - она не отсыревает. Это свойство имеет большое значение: если нужно приготовить с сахаром какой-либо порошок, содержащий легко гидролизующее лекарство, то берут молочный саха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чение лактозы очень велико, т.к. она является важным питательным веществом, особенно для растущих организмов человека и млекопитающихся животны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3948-6491-41AC-B213-7328FB420A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4T09:52:46Z</dcterms:created>
  <dc:creator>Василенков</dc:creator>
  <dc:description/>
  <dc:language>en-US</dc:language>
  <cp:lastModifiedBy>Student</cp:lastModifiedBy>
  <dcterms:modified xsi:type="dcterms:W3CDTF">2013-05-03T09:37:59Z</dcterms:modified>
  <cp:revision>58</cp:revision>
  <dc:subject/>
  <dc:title> ПРЕЗЕНТАЦИЯ по химии</dc:title>
</cp:coreProperties>
</file>