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E4D-E08F-4F67-AC2C-BEA3D0B0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535-7AD5-48A5-BB60-F711B817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E9A-14E9-4EBD-8EA4-B9BD24FF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0CD-660A-4D7D-8F1A-C9B8B0D3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B8BB-A7FF-47B7-84FF-F9271DE6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D3D1-1396-4947-88CC-A4EF2AE3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E0F2-0515-46B7-9074-9C554924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8976-3DD1-4D72-9168-33C0C6A1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BA90-21E3-42C1-9CCF-044D11E9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0E19-12EA-4BDC-8162-B132B1B1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6F93-1C93-4BA3-B450-74EC2043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799-E6D6-4A76-97CC-1852A321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F6D7-2943-4A62-AC54-B6CBF0A4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D2CE-9494-4B58-BD21-59B61A2D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CDD3-2DE7-4310-98E9-197F3000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4476-5D52-4E34-91CA-B5EE5537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F9D2-4F8D-44E9-BDD3-C00FC00D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594A-992C-4A1A-A86B-16547114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DB671-5EE0-41A2-BA77-611A2417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DC9DF-90DF-489A-8226-7A483A79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35A6-245C-4A92-BDC0-896A7B3E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587D0-F50E-42A5-981D-1999ECF2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F1F-DBC1-4B6E-ACD8-B62F6B61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895CF-5E49-486F-B0FB-03C98618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50319-2F58-4F06-BC90-8AA3FAA1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5421-5F9B-40E1-9204-9680C098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E45F-E7C0-4AEF-8467-40C6E023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FB385-389F-42FF-9459-0EF3B582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B84D5-04F9-4BC7-B80D-3C7D856F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8EECD-A93E-4913-8258-D7615C0B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ADF78-A9BB-48DF-8628-8A38D1C9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E5A00-E3F8-4FB4-AC39-E12DF069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84789-F726-49B1-86D4-754007B6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C5D-FD77-43EE-BEB5-96C1ED9B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6596E-80FA-42D2-8D81-2A4E7296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22E3D-233D-4B80-A22A-71DA6DC9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11E3E-9714-488E-B5EB-97238A97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C2698-3B83-4D59-B222-8E86D1EF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8031E-DD29-423E-9652-6E835E60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07652-41D6-4527-ABA0-5035144B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4868C-B06A-4F6F-B030-3C790BA4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5A9D8-2800-4338-9360-19D0DFC2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B8C8A-149F-46A3-B3F1-1E933CC9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FE625-ED3D-4676-B62B-97D0C663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8D5-A9AD-4A16-9DDE-E32B4C4D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B7A1B-D70F-43EF-AF7F-4E2DBB64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0F3C7-4DCE-46CF-B9AF-3663C5CC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BF5BD-BE43-48F9-A92E-75077153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1F352-6353-48D8-A423-3AB37D37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775F9-CDAE-44B8-8C2C-B1FC23FD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7965F-AA2A-4D31-9A19-6A623636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AE265-CB1B-4E2D-9B17-D64A731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DDAD8-A5E3-4D66-83DC-7D228722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189E8-ABF9-428D-93FB-52E28CE0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9A5DE-550B-4440-9FD9-A16EEA4B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0E6-8478-4671-945B-BE3F4553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BDB7E-A3D5-462C-A34F-32EC427F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E13-E4C7-45CD-9D9A-5CB0BE75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411-5B7F-4571-9493-346CDB7B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3076-FBCB-4DE2-8653-3EA23CD7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3E90-5C04-46F8-ACA0-AD3C7499976E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97B3-E43D-44C8-9015-A0DAB930810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FCB5-6765-4C54-864C-37E986390A5D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4A5F-7A7B-474E-AF27-B9A26B251F2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DF93-435A-42CE-8DA7-56350F79C14C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7F91-38D3-4866-97CE-854F9AE1AAE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8AF4-2D9A-486B-82A4-9735D3232F9E}" type="datetime"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F30A-62E1-4D7B-96A7-651439775A8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ABE7-74F6-455E-A881-2D3029BFF77F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5A33-AFAF-4461-87EE-1D09973D6C4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19520" y="1524240"/>
            <a:ext cx="60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Моносахарид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Оптическая изомер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Циклические и подциклические формы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AC09-F95B-4D4D-A8B9-956703FB96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-55440" y="274680"/>
            <a:ext cx="8340480" cy="154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457200" y="2171880"/>
            <a:ext cx="7238880" cy="372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AE9-CBA6-44E3-953D-D97B8C63E6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546680" cy="569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58D-B66D-4C87-9DAA-7F584F024B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411120" y="352440"/>
            <a:ext cx="8321760" cy="615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E6A-62D4-4A31-8EF8-5F75FFF719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382680" y="338040"/>
            <a:ext cx="8377200" cy="618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E04-5701-4B1B-B3C9-307460E780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7238880" cy="55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7ED-8958-479A-860A-6A884AB61B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20360" cy="592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E22-1230-49B1-A75A-EE171518AF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395280" y="606600"/>
            <a:ext cx="8352000" cy="564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543-5DCC-42A8-B3A1-BF19F4E67E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395280" y="312840"/>
            <a:ext cx="8352000" cy="623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C6D-DAF4-4EC2-B349-1851CE3F82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225360" y="600120"/>
            <a:ext cx="8693280" cy="565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ADD-0772-4232-AF80-EB6D96FD04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Глюкоза получается при гидролизе полисахаридов крахмала и целлюлозы (под действием ферментов или минеральных кислот). Применяется как средство усиленного питания или как лекарственное вещество, при отделке тканей, как восстановитель – в производстве зерка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031-D162-45D4-ACE9-50BE848C2D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Моносахариды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– простейшие углеводы, они не подвергаются гидролизу – не расщепляются водой на более простые углеводы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Глюкоза,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или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виноградный сахар,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6Н12О6 – важнейший из моносахаридов; белые кристаллы сладкого вкуса, легка растворяющиеся в воде. Содержится в соке винограда, во многих фруктах, а также в крови животных и человека. Мышечная работа совершается главным образом за счет энергии, выделяющейся при окислении глюкоз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63BD-47A3-4900-B956-B45586DCA8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-360" y="609120"/>
            <a:ext cx="88455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носахариды как альдегидо- или кетоноспирты являются  соединениями со смешанными функциями; природа их усложнена возможностью внутримолекулярных взаимодействий  спиртовых гидроксильных групп с альдегидной  или кетоновой  карбонильной  группой. Благодаря этому моносахариды существуют и вступают в реакции не только в открытой цепной форме, но еще и в циклических формах. Углеродная цепь моносахарида, например глюкозы (1), может принимать конформацию «клешни» (см. ниже  формула в); при этом 1-й С-атом , несущий карбонильную группу, сближается со спиртовой группой  при 5-ом С-атоме; атом Н из группы ОН перемещается  (как показано пунктирной стрелкой) к карбонильному кислороду, а кислород при 5-ом С-атоме соединяется с 1-м (карбонильным) С-атомом (это тукже показано пунктирной стрелкой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066-7D38-42D5-A18E-3A9359E39A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09120" y="10666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онформация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– это различные формы, которые может принимать цепь в пространстве, благодаря возможности вращения атомов вокруг оси связ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568-A064-4BF6-B516-CBC6D85821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-360" y="304560"/>
            <a:ext cx="88455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Природная кристаллическая глюкоза (виноградный сахар) представляет собой циклическую α-форму  (т. пл. моногидрата 83˚ С, безводной 146˚ С). При растворении в воде она, как показано выше на схеме, переходит в цепную, а через нее в β-форму; при этом устанавливается динамическое равновесие между всеми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Symbol"/>
                <a:ea typeface="Symbol"/>
                <a:hlinkClick r:id="rId1" action="ppaction://hlinksldjump"/>
              </a:rPr>
              <a:t>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β-форма также может быть выделена в кристаллическом виде (т. пл. 148-150˚ С); в водном растворе и она образует равновесную систему, содержащую все формы. Цепная же форма  существует лишь в растворах, причем в очень небольших количествах (доли процента), а в свободном виде не выделен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Symbol"/>
                <a:ea typeface="Symbol"/>
                <a:hlinkClick r:id="rId2" action="ppaction://hlinksldjump"/>
              </a:rPr>
              <a:t>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i="1" lang="ru-RU" sz="2400" spc="-1" strike="noStrike">
                <a:solidFill>
                  <a:srgbClr val="d490c5"/>
                </a:solidFill>
                <a:latin typeface="Trebuchet MS"/>
              </a:rPr>
              <a:t>В равновесной системе моносахаридов образуются и их циклические формы с пятичленным кислородосодержащим кольцом; они неустойчивы и в свободном кристаллическом виде не выделены. Однако известны многие природные и синтетические соединения, являющиеся производными пятичленных циклических форм моносахарид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619-5EC0-4054-A7A6-03E6AA22E7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33520" y="10666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зомерные формы соединений. Способные переходить  друг в друга, называют таутомерными формами, или таутомерами, а само существование их – явлением таутомерии; оно весьма распространено среди органических соединен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670-5755-4592-A722-5AA28D31D2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7238880" cy="4130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8229600" cy="139068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872e60">
                <a:alpha val="38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9A3-D4E7-4F04-8333-8C07341999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91400" cy="4467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0" y="228600"/>
            <a:ext cx="8229600" cy="14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C2C-7F07-428A-8301-851E976386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322200"/>
            <a:ext cx="8229600" cy="1438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187200" y="1743120"/>
            <a:ext cx="895680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5A3-E821-49D5-B652-155459C2DA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229600" cy="1438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8102520" cy="427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AA7-768C-40D7-9A5F-A1C9E130D8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238880" cy="466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407-9850-42A1-9841-2516CC8652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238880" cy="447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3E83-5F60-4C25-B892-8580A2E607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57200" y="2162160"/>
            <a:ext cx="7238880" cy="3741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2"/>
          <a:stretch/>
        </p:blipFill>
        <p:spPr>
          <a:xfrm>
            <a:off x="-15840" y="228600"/>
            <a:ext cx="8229600" cy="143820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388-79B9-4C9C-A833-0B707EE113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13-05-03T09:43:0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